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21273-C4A1-4419-ABF7-54C791BE4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6A87B-E1FB-4DAE-8FCC-E649BEB3A7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DC2-FF87-4D1E-9005-5A056E74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575-3251-4CF9-8567-EBFA4A8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D77-822C-4917-835E-0BE6C370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F7A-12CB-47AC-9A96-4B58AB09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38E-0F1C-44E9-85D8-9FA58204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1B2-CFDB-4E4B-B0CB-AC20F116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23E-AE1A-4138-8DEE-71798F26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CC5-CAFC-446F-A10E-9A9E7F63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47E-F315-4A00-B91F-6B6A7C67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175-94D1-4EAC-AD1B-61B00E1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157-91E0-4871-BDB0-202D66EF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904-03A8-4E9E-AFA7-222FAF2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A59C3-7E7A-4E37-A74F-506325620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Напредна обука за компјутерски криминал за судии и обвин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Сесиј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Завршување на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и повратни информации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Намена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ваа сесија е изготвена да им овозможи на учесниците да дадат повратни информации за курсот и да му помогнат на инструкторот да увиди каде може да се направат евентуални подобрувања. Таа исто така служи инструкторот да направи рекапитулација на содржината на курсот со осврт на намената и целит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и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На крајот од овој курс учесниците ќе бидат запознаени со прашањата релевантни во истрага на компјутерски криминал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Водење истраг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на типот сторено дел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Утврдување локација на докази, сведоци и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Обезбедување докази на прифатлив начин, без оглед на тоа каде се чуваат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претрес и заплена за електронски доказ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со дигитални уреди што се дел од истрагат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Задача на вештите лица и други лица потребни за поддршка на фазата на истрага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дготовка за распит на осомничен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Изведување докази за компјутерски криминал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згледување на релевантните аспекти во судскиот процес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тставување на курсот, инструкторот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 – Подготвување истра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утврдување дела, подготвување план за истрага и сценариот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на меѓународна соработк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Работа во групи за откривање сторител и планирање стратегија за апсењ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аспоре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ен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77560" y="1417680"/>
            <a:ext cx="8651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Ден 1 – Информации за апсењето/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 – Дигитално вештаче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на дигитални докази, потреби од докази, осомничени, надлежност и меѓународни праш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уче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зентациј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одготвување предмет за на су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Работа во групи за завршување на случај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ау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Преглед на случајот, интервенции од инструкторите и учесниците, евалуација, повратни информации и завршување на курсо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На крајот од оваа сесија учес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ефе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ополнат обрасците на Советот на Европа за евалуација на кур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утврдат следното ниво на учење што треба да го преземат за да си ги подобрат знаењето и вештините на дадената 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Резиме на целите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Oliver</cp:lastModifiedBy>
  <dcterms:modified xsi:type="dcterms:W3CDTF">2013-08-15T21:19:32Z</dcterms:modified>
  <cp:revision>32</cp:revision>
  <dc:subject/>
  <dc:title>Introductory Cybercrime Training for Judges and Prosecutors</dc:title>
</cp:coreProperties>
</file>